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923088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0"/>
            <a:ext cx="6922800" cy="92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880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38"/>
          </p:nvPr>
        </p:nvSpPr>
        <p:spPr>
          <a:xfrm>
            <a:off x="3921120" y="-360"/>
            <a:ext cx="299880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sldImg"/>
          </p:nvPr>
        </p:nvSpPr>
        <p:spPr>
          <a:xfrm>
            <a:off x="1158840" y="690120"/>
            <a:ext cx="4603680" cy="345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body"/>
          </p:nvPr>
        </p:nvSpPr>
        <p:spPr>
          <a:xfrm>
            <a:off x="691920" y="4373280"/>
            <a:ext cx="5537160" cy="41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ftr" idx="39"/>
          </p:nvPr>
        </p:nvSpPr>
        <p:spPr>
          <a:xfrm>
            <a:off x="0" y="8745120"/>
            <a:ext cx="299880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 type="sldNum" idx="40"/>
          </p:nvPr>
        </p:nvSpPr>
        <p:spPr>
          <a:xfrm>
            <a:off x="3921120" y="8745120"/>
            <a:ext cx="299880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9CF4-2A8A-4D67-AAA8-BA7E037A0AC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91920" y="4373280"/>
            <a:ext cx="553716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Espaço Reservado para Número de Slide 3"/>
          <p:cNvSpPr/>
          <p:nvPr/>
        </p:nvSpPr>
        <p:spPr>
          <a:xfrm>
            <a:off x="3921120" y="8745480"/>
            <a:ext cx="2998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C367-3AE6-4623-AB46-0235C1D0898B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91920" y="4373280"/>
            <a:ext cx="553716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Espaço Reservado para Número de Slide 3"/>
          <p:cNvSpPr/>
          <p:nvPr/>
        </p:nvSpPr>
        <p:spPr>
          <a:xfrm>
            <a:off x="3921120" y="8745480"/>
            <a:ext cx="2998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5196-7F10-45E3-A37D-010463D8C044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E5A02-3386-451C-8157-3881C969BE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ED416-79DF-438F-A5C6-E3B1593E144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C00D1D-DE6D-4B43-8CA7-E932091E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EE898A-651C-4C8C-8885-59BD9177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93C3CA-0523-40C7-BDB2-EA7D3188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C14936-6145-4E86-8064-9A7C3FF0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8F870D-00A1-4471-9E12-7C237577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427B34-E714-4A0E-BAE8-9B54D026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6DD877-1ACF-429A-8F6A-8D22DD91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AD8C21-10A7-4619-852F-5587007D4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951ECE-4653-474E-9FDC-4D037141C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0CBB39-00E7-4540-A3B0-518407A77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B00E4-F062-4F2C-A206-07BDB603C77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7E9C17-93B0-4C9B-996C-2F370923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9DD5EB-3B59-4F0E-B2AA-998FC223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B697A5-9FD5-4CEB-A0C1-53838269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8499B2-4E42-458C-BE9F-BF249B12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2224F0-A3D1-438B-998E-B349BA09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2B8C4F-2B58-4BA1-956F-A0F45E31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23FC86-6DDC-4DAF-9B6F-48D82FC1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AFE01A-316A-4918-B8A1-A398B13F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1B0D00-27A2-436D-89B3-C62F2DC5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673E31-5EC6-42F4-83C5-71B273A81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D9E45-A701-49ED-9FFE-1D731942B41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F4AEA8-1DE6-49B7-96E4-E5EC0F2F6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95AD2D0-CBEF-49FD-B688-B14893C4C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C54CBD4-170E-4351-A3BB-D7F2241C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42C125F-9E02-47E9-9E2C-A86AD28E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E96342C-D939-4967-8B37-1A5EBFA0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77EEA08-A315-48CA-A73F-EBBA8C0B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C51C3C6-8541-4F7E-9288-0B0F3D35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EB4F2A4-C633-4770-9284-0A3085B3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023D68B-B56B-450B-9B4F-3D9E1594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4116B87-CC37-48B7-B367-C9F106C7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4138B-8261-4195-A19E-B95E5013F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1310A96-22C8-436F-8B09-79EB9709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426C8BD-AFC0-4C50-9B64-A87D76789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EF3E1DE-E3EC-4B46-ACD3-562251566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89ACB1-C38D-496F-AD7F-D21950583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354170-DBDC-4FD5-9899-9B24C33E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406079-8E93-476A-8D6F-A64F564D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FFEF14-68DE-4395-9FD8-B608FD89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1C5407-6033-42ED-B00D-72F58EB5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9B78C7-167E-46F0-AA88-C03C57C2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396B25-8E62-4F07-81FF-59E265E7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3F6D4-7577-41A1-9EE2-C2F059D9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A0B78D-B84A-4277-B557-2A8CBE2C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7B4314-48FE-45F1-8125-A809378F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7AAD73-D172-47BD-B03F-6B437EBB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3610ED-3D13-4AAC-AC13-8CE2D4414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3440E3-7BF6-40B1-8C1F-59C146012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BA88B18-811A-492D-83BB-B95483023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1D4D82B-2A67-4FCF-B4C3-05E4A26F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2963D04-5DEB-45C8-B7BE-2BEC6FBB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7FE658E-D46B-4D19-8FDC-8BCCA589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4484104-B627-4E75-8AD8-80018910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2BA2C-6E8A-402B-BB23-4DCFC321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B5832C4-E3EE-43EE-BAFC-983BFFDC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0EA9D64-D057-4BFC-B943-A42A6AE1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514EA1C-7F19-4EF8-B9D6-FBC319F0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038D768-7FB0-4642-B680-7EEC9E13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DEC45BC-205E-4552-B17E-C6E9F15A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44E1AA4-7CD2-4449-B0F3-E2ABEB502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4E185B7-4792-4217-A714-1C2569331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A46D7-7DB8-4D27-8FE6-C745AFD0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B916C-33AA-4DBA-89B8-6CF85B5D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B6D185-EED5-47DA-8F8C-0B863488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D8F40-4AD4-4142-8DC8-2148928B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6E752-CE08-41A5-8E45-E1A0F9F27B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B5DAA-2488-4911-B8D7-16D0FE0C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8AE82E-E759-45D7-811E-F2C30DBE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0D92A-1964-4B20-B799-79A1F246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EA76C-9B93-4C5D-B052-DD3AC5EEA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06B59-3C02-4ACF-A201-93738B370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D19EFC-D1AC-41CF-9BEA-4F4742EB7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CE845A-E092-4C52-9329-DAAA21EA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9F5054-710D-4FB1-B40A-FD5F7D2B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98D01D-073B-41A9-8C9B-2352EC10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2F3435-17B4-43EC-83B9-FED659F0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AF3BE-84E3-43FD-B5B4-A421F8CE328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B15C13-1CFA-4265-9011-23A025C7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0AA331-2370-4E9F-994E-287AEB3A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9B30BF-2C9A-48AE-9FD5-27CF1E77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32EA43-E8FD-449D-970E-1E2A28CE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0B3AC7-F622-45E5-81EC-DC4E9E07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EB4540-1083-4E5D-8E83-C48BDCB2E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E562E3-9DC6-4FA7-9EE1-A1B2ACDFE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CEA1C2-372F-4309-B8DB-24E37C0AB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2DC55E-A838-4869-9C4A-6CD7298E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915DAE-8965-4717-8C38-617D7E55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BB220-BC79-42B7-907E-43196E5F369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C532AB-7EDB-4D51-98B1-36CDA145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4F8D10-AB3E-4334-8F4D-BCE1818A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77F540-F833-4912-A8AD-81D80FE8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4D406C-BDF4-4965-8265-5835AF44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A8E2CE-5A94-4BB5-93FD-A42DBC43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872756-A3D7-4B74-BDDE-4DE92913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54B081-DFB6-4763-BFD0-27BEFAD9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CBA833-B3D6-4A6F-8755-BC244BBA7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99577D-3149-4174-BBA7-105D6428B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B7893A-B7BA-4061-9DB7-48DD87552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800DE-B1A1-43E6-91AE-5C388C7421B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BD18AD-8FF7-434C-B361-2D636E43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28ECCA-3CCB-4179-A1D5-166ADD0E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B78DB2-87B8-45FB-A0A0-0FA56887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AA5754-B0A4-452C-B64B-C4105B9C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28DC26-59CF-45BC-833E-C02855FD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01F8FD-5E36-4A35-A16F-423FE0EF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B03AAF-FC5C-4FF8-95B2-E92113C3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9E937E-5871-4096-BD89-3DEBAE69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33F4FF-7BA5-4576-A0A2-B3570865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187456-1D7E-491B-AD14-DD825D7DD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48974-A3AD-49A8-9A2B-586F531ED10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041C64-5849-4552-973E-2086E7156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719029-AD92-4D6A-8F84-A36D45EDC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258FCF-1E71-4A87-A3E1-BD7B8388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7854F4-C50C-4BEE-A59F-E0E2B37E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DFD871-895C-42A7-998F-FED7A25A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320E78-E9A5-4581-B8C9-3EB6C50F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14FF62-450E-4D16-987D-D47D619D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A284FD-00DC-4AD8-B37E-B962F1FB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A94C4C-2EE5-48E9-8BF7-B76E45C2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034937-7213-4AEB-AA44-74E86C9E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F990E-7D8E-4352-A27E-9476095F6F6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8813CC-BCCF-4FEC-9A69-98CB78E1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FB04E9-66DC-4B4B-8286-41DFE8223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085052-C1A1-4E8B-808D-E164EB269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DB1900-C363-4CB0-AA66-DBE15C14C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7F9CD7-B423-4493-8408-9E4B07DF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B45A8D-E599-41C1-AFB9-8E9423D5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E8434F-E734-4FBC-9F87-8621D08B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AA78BD-BDAF-433F-8A68-3418DD72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B40C3F-B8F9-429E-9FEE-FCDCD248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6C62BE-A8CF-4EC3-9DA8-5E2B3C8E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3433A-9856-4880-A4BA-9243C27AE60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1236C4-F423-4C35-B092-9A4B1134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708D90-EFAC-4CA4-806C-D4078C0D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187C6C-6F7A-4A31-85F3-464927B5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690642-363F-4D3B-AC90-479EEDDE3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E1E63F-9BAF-4778-8B7E-3FD86E99A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CE8636-AC05-464A-AD1E-8A743D26F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679A61-D115-4997-A9F3-2A2E4C94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88E41D-F4A7-468A-8050-38D6C779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20FF44-88CF-488A-BBCF-A218DD0B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629B87-9CEF-463D-B93C-FF639798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B4412-0475-4C7D-9A45-B1CD3857306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CBCC58-6175-4B9A-A581-AD7AC76A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5D8E37-15DC-464B-9E05-4E8FB810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C6D52C-25B6-4D0B-97ED-88BEF0AB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5F596A-14C8-4FEF-B048-B778AF16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955688-D4DF-41E1-BE1C-FDFD233F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8F850C-C1D1-4E24-A6A3-452D9A166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CE54D8-1C5B-4370-A49D-88FBDD75C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ECF5AA-3EB8-4880-9C6C-D1234D513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53DA0A-F59C-49D2-BF8E-F210D9CA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238AC5-69EE-4423-BD60-87ADBB62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21.xml"/><Relationship Id="rId9" Type="http://schemas.openxmlformats.org/officeDocument/2006/relationships/slideLayout" Target="../slideLayouts/slideLayout122.xml"/><Relationship Id="rId10" Type="http://schemas.openxmlformats.org/officeDocument/2006/relationships/slideLayout" Target="../slideLayouts/slideLayout123.xml"/><Relationship Id="rId11" Type="http://schemas.openxmlformats.org/officeDocument/2006/relationships/slideLayout" Target="../slideLayouts/slideLayout124.xml"/><Relationship Id="rId12" Type="http://schemas.openxmlformats.org/officeDocument/2006/relationships/slideLayout" Target="../slideLayouts/slideLayout125.xml"/><Relationship Id="rId13" Type="http://schemas.openxmlformats.org/officeDocument/2006/relationships/slideLayout" Target="../slideLayouts/slideLayout126.xml"/><Relationship Id="rId14" Type="http://schemas.openxmlformats.org/officeDocument/2006/relationships/slideLayout" Target="../slideLayouts/slideLayout127.xml"/><Relationship Id="rId15" Type="http://schemas.openxmlformats.org/officeDocument/2006/relationships/slideLayout" Target="../slideLayouts/slideLayout128.xml"/><Relationship Id="rId16" Type="http://schemas.openxmlformats.org/officeDocument/2006/relationships/slideLayout" Target="../slideLayouts/slideLayout129.xml"/><Relationship Id="rId17" Type="http://schemas.openxmlformats.org/officeDocument/2006/relationships/slideLayout" Target="../slideLayouts/slideLayout130.xml"/><Relationship Id="rId18" Type="http://schemas.openxmlformats.org/officeDocument/2006/relationships/slideLayout" Target="../slideLayouts/slideLayout131.xml"/><Relationship Id="rId19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68C8-E7E2-4DBB-B24C-AFB71742B61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2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3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378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379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8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76B9-02D3-45A1-BC76-44E07941F75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420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421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pic>
        <p:nvPicPr>
          <p:cNvPr id="422" name="Imagem 7" descr="template_ppt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7" descr=""/>
          <p:cNvPicPr/>
          <p:nvPr/>
        </p:nvPicPr>
        <p:blipFill>
          <a:blip r:embed="rId6"/>
          <a:stretch/>
        </p:blipFill>
        <p:spPr>
          <a:xfrm>
            <a:off x="404640" y="236520"/>
            <a:ext cx="2667240" cy="536760"/>
          </a:xfrm>
          <a:prstGeom prst="rect">
            <a:avLst/>
          </a:prstGeom>
          <a:ln w="0">
            <a:noFill/>
          </a:ln>
        </p:spPr>
      </p:pic>
      <p:pic>
        <p:nvPicPr>
          <p:cNvPr id="424" name="Imagem 9" descr="malha_construtiva.jpg"/>
          <p:cNvPicPr/>
          <p:nvPr/>
        </p:nvPicPr>
        <p:blipFill>
          <a:blip r:embed="rId7"/>
          <a:stretch/>
        </p:blipFill>
        <p:spPr>
          <a:xfrm>
            <a:off x="7000920" y="357120"/>
            <a:ext cx="1852560" cy="46368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31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471E-1974-4A0C-B5AB-F33CAF8DA8A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8"/>
    <p:sldLayoutId id="2147483780" r:id="rId9"/>
    <p:sldLayoutId id="2147483781" r:id="rId10"/>
    <p:sldLayoutId id="2147483782" r:id="rId11"/>
    <p:sldLayoutId id="2147483783" r:id="rId12"/>
    <p:sldLayoutId id="2147483784" r:id="rId13"/>
    <p:sldLayoutId id="2147483785" r:id="rId14"/>
    <p:sldLayoutId id="2147483786" r:id="rId15"/>
    <p:sldLayoutId id="2147483787" r:id="rId16"/>
    <p:sldLayoutId id="2147483788" r:id="rId17"/>
    <p:sldLayoutId id="2147483789" r:id="rId18"/>
    <p:sldLayoutId id="2147483790" r:id="rId19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465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466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34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860B-9AD2-4FF0-B8FC-843B6569C72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507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508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dt" idx="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37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AC78-2EE1-4EB2-AAE9-11A2F16EEB6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674D-E43C-42A2-82AA-ECFC5844BCB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82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83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7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C0FA-1A6C-485C-9D70-7CF8E99A85E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124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125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10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FC0A-F210-4712-A96B-E9F2C4ACC39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168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169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3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F6F9-CB1B-4E22-A8C2-3567852B5C8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210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211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6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48AD-07A7-41F5-B7D8-0C7F59AF6F5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252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253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9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88F4-A3F2-43A0-9FA7-CDA25630DD6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294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295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2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3297-5052-414B-8D4D-C50D5AC82FAF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336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337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5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FA0A-6CE7-4128-AEFD-1223667D04DF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etorica.labhackercd.net/dashboards/556c67d4986c856f65dba114" TargetMode="External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ainelsocial.labhackercd.net/panels/camara-dos-deputados" TargetMode="External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aplicativos.gov.br/aplicativos/kosme/" TargetMode="External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play.google.com/store/apps/details?id=br.com.PartoHumanizado" TargetMode="External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tângulo 4"/>
          <p:cNvSpPr/>
          <p:nvPr/>
        </p:nvSpPr>
        <p:spPr>
          <a:xfrm>
            <a:off x="36360" y="2700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Imagem 14" descr="Sem Título-1.png"/>
          <p:cNvPicPr/>
          <p:nvPr/>
        </p:nvPicPr>
        <p:blipFill>
          <a:blip r:embed="rId1"/>
          <a:stretch/>
        </p:blipFill>
        <p:spPr>
          <a:xfrm>
            <a:off x="1227240" y="808200"/>
            <a:ext cx="7559640" cy="524160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26880" y="2420640"/>
            <a:ext cx="75279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t-BR" sz="4000" spc="-1" strike="noStrike">
                <a:solidFill>
                  <a:srgbClr val="006699"/>
                </a:solidFill>
                <a:latin typeface="HelveticaNeue Condensed"/>
              </a:rPr>
              <a:t>Hackathon AN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CaixaDeTexto 1"/>
          <p:cNvSpPr/>
          <p:nvPr/>
        </p:nvSpPr>
        <p:spPr>
          <a:xfrm>
            <a:off x="3132000" y="5589720"/>
            <a:ext cx="410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Reunião – 02/05/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Produ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No que se refere à salvaguarda dos direitos de propriedade intelectual, todos os participantes </a:t>
            </a:r>
            <a:r>
              <a:rPr b="0" lang="pt-BR" sz="2200" spc="-1" strike="noStrike" u="sng">
                <a:solidFill>
                  <a:srgbClr val="000000"/>
                </a:solidFill>
                <a:uFillTx/>
                <a:latin typeface="Calibri"/>
              </a:rPr>
              <a:t>cedem exclusivamente à Agência Nacional de Saúde Suplementar o código-fonte e o direito de uso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dos aplicativos desenvolvidos, de forma irrevogáve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Os participantes deverão apresentar à Comissão Organizadora um </a:t>
            </a:r>
            <a:r>
              <a:rPr b="0" i="1" lang="pt-BR" sz="2200" spc="-1" strike="noStrike">
                <a:solidFill>
                  <a:srgbClr val="000000"/>
                </a:solidFill>
                <a:latin typeface="Calibri"/>
              </a:rPr>
              <a:t>Termo de Cessão de Direitos Autorais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e também um </a:t>
            </a:r>
            <a:r>
              <a:rPr b="0" i="1" lang="pt-BR" sz="2200" spc="-1" strike="noStrike">
                <a:solidFill>
                  <a:srgbClr val="000000"/>
                </a:solidFill>
                <a:latin typeface="Calibri"/>
              </a:rPr>
              <a:t>Termo de Licença de Uso de Software/Aplicativo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, conforme modelos a serem disponibilizado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Os projetos desenvolvidos nesta maratona serão apreciados pela Comissão Avaliadora, que é soberana, e elegerá o(s) projeto(s) vencedor(e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Avaliação dos proje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Os projetos serão avaliados com base em três critério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INTERESSE PÚBLICO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: será avaliado o quanto o projeto </a:t>
            </a:r>
            <a:r>
              <a:rPr b="0" lang="pt-BR" sz="2200" spc="-1" strike="noStrike" u="sng">
                <a:solidFill>
                  <a:srgbClr val="000000"/>
                </a:solidFill>
                <a:uFillTx/>
                <a:latin typeface="Calibri"/>
              </a:rPr>
              <a:t>contribuirá para o desenvolvimento do setor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de saúde suplementa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CRIATIVIDADE E INOVAÇÃO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: será avaliado o quanto o projeto contribuirá para experimentação de abordagens não convencionais para a solução de problema relevante, considerada a sua </a:t>
            </a:r>
            <a:r>
              <a:rPr b="0" lang="pt-BR" sz="2200" spc="-1" strike="noStrike" u="sng">
                <a:solidFill>
                  <a:srgbClr val="000000"/>
                </a:solidFill>
                <a:uFillTx/>
                <a:latin typeface="Calibri"/>
              </a:rPr>
              <a:t>distinção entre as soluções alternativas já existentes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QUALIDADE TÉCNICA: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será avaliado o quanto o projeto atende aos seguintes parâmetros: a) usabilidade e acessibilidade; b) facilidade para ser compartilhado, copiado, alterado, remixado e executado por outras pessoas; c) estar devidamente documentado na interne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Prêm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1° colocado: R$ 10.000,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2° colocado: R$ 5.000,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3° colocado: R$ 2.500,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ara o pagamento dos prêmios será aberto um chamamento público para que as instituições interessadas em financiar esse pagamento possam participa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Os gastos com a realização dos eventos presenciais será da ANS. Os participantes arcarão com despesas de transporte, hospedagem e alimentaçã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Chamamento Públ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nstituições que poderão participar: Organizações da Sociedade Civil, de acordo com a Lei  n° 13.019/2014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Serão selecionadas até 3 instituições através de sortei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Temas inicialmente propos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1) utilização consciente do plano de saúde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2) mobilidade dos dados clínicos do beneficiári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UTROS PODERÃO SER DEFINIDOS PELA COMISSÃO ORGANIZADO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Cronograma do Proje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539640" y="1268280"/>
          <a:ext cx="8064720" cy="4886280"/>
        </p:xfrm>
        <a:graphic>
          <a:graphicData uri="http://schemas.openxmlformats.org/drawingml/2006/table">
            <a:tbl>
              <a:tblPr/>
              <a:tblGrid>
                <a:gridCol w="260640"/>
                <a:gridCol w="3827160"/>
                <a:gridCol w="712800"/>
                <a:gridCol w="711360"/>
                <a:gridCol w="712800"/>
                <a:gridCol w="1839960"/>
              </a:tblGrid>
              <a:tr h="228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ividad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</a:t>
                      </a:r>
                      <a:br>
                        <a:rPr sz="700"/>
                      </a:b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íci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Términ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Conclusã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ponsável pela taref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0160"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to 1: Elaboração de Document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ção da Nota Técn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 Fernand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9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ção do Edital de Chamamento Públi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 Fernand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0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ção do Termo de Cooperaçã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 Fernand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9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ção do Edital do Hackath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 Fernand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8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liação das minut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riana, Pedro, Eduardo, Michell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9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justes das minut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 Fernand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0160"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to 2: Encaminhamentos intern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união com GGE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, Eduardo, Michell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9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ertura do processo administrativo e encaminhamento para a PRO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 Fernand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0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rovação da PRO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9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iação da Comissão Organizadora (portaria no B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 Fernand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0160"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to 3 : Realização e divulgação do Chamamento Públi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ção da ficha de inscriçã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 Fernand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9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blicação do edital de chamamento público no DO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 Fernand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0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blicação do edital de chamamento público em jornal de grande circulaçã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 Fernand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ções de divulgação do Chamamento Públi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essa Carvalh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9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álise da documentação de habilitaçã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issão Organizado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0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vulgação de resultad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essa Carvalh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0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álise de recurs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issão Organizado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9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vulgação do resultado dos recurs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essa Carvalh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0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rteio (se for o cas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, Vanessa, Eduardo, Michell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9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inatura do Termo de Cooperaçã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tha Olivei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7" name=""/>
          <p:cNvGraphicFramePr/>
          <p:nvPr/>
        </p:nvGraphicFramePr>
        <p:xfrm>
          <a:off x="684360" y="1341360"/>
          <a:ext cx="7991280" cy="4608720"/>
        </p:xfrm>
        <a:graphic>
          <a:graphicData uri="http://schemas.openxmlformats.org/drawingml/2006/table">
            <a:tbl>
              <a:tblPr/>
              <a:tblGrid>
                <a:gridCol w="257040"/>
                <a:gridCol w="3794040"/>
                <a:gridCol w="704880"/>
                <a:gridCol w="706320"/>
                <a:gridCol w="704880"/>
                <a:gridCol w="1824120"/>
              </a:tblGrid>
              <a:tr h="257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ividad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</a:t>
                      </a:r>
                      <a:br>
                        <a:rPr sz="800"/>
                      </a:b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íci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Térmi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Conclusã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ponsável pela taref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3560"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to 4 : Organização e divulgação do Hackath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iação da Comissão Avaliadora (portaria no DOU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, Vanessa, Michel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cussão com as entidades parceiras para definição dos tem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tha, Michelle, Leonard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zação da infraestrutura dos eventos inicial e final junto à COE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essa, Leonard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finição das palestras que ocorrerão no evento inici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helle, Leonardo, Eduard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finição dos dados a serem divulgados (além do que já está no site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ardo, Michel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ção do Termo de Cessão de Direitos Autorais e do Termo de Licença de Uso do Software/Aplicativ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, Pedro, Adria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rovação dos Termos pela PRO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blicação do edital do Hackathon no DO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 Fernand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ções de divulgação do Hackath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essa Carvalh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5360"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to 5 : Realização do Hackath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bimento e análise das incrições e documentos anex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issão Organizado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álise e seleção das propos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issão Organizado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vulgação dos selecionad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essa Carvalh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ento de abertur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, Vaness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ing durante Desenvolvimento dos projetos pelos participant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ardo. Leonard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ento final (apresentação dos protótipo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, Vaness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liação dos produtos e seleção dos vencedo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issão Avaliado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5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vulgação dos vencedo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essa Carvalh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Cronograma do Proje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xemplos de Apps que surgiram em Hackathons da Administração Públ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etórica Parlamentar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onsiste na análise e visualização em forma de bolhas dos principais temas presentes nos pronunciamentos dos deputados brasileiros durante o pequeno expediente. Dentro de cada bolha, que corresponde a um tema, é possível verificar quais os deputados o abordaram nos seus discursos. Clicando em um deputado, é possível visualizar mais informações sobre el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ainel Social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onsiste em um piloto para a visualização de informações legislativas e de redes sociais. O principal público alvo são os órgãos internos da Câmara dos Deputados, tais como Comissões e Liderança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Título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xemplos de Apps que surgiram em Hackathons da Administração Pú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KOSME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Oportuniza a atividade da observação astronômica para ensinar e instigar sobre astronomia. Após observar o céu noturno, o usuário navega pelo mapa apontando o aparelho para os objetos astronômicos que observou para colecioná-los. Com um clique, ele pode adicionar anotações e fotos para documentar sua experiência. Em troca, recebe o sticker equivalente do astro, que pode ser colado dentro de sua respectiva coleção no álbum.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xemplos de Apps que surgiram em Hackathons da Administração Públ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Hackathon 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Hackathon (Maratona Hacker) ANS: evento que reune </a:t>
            </a:r>
            <a:r>
              <a:rPr b="0" i="1" lang="pt-BR" sz="2200" spc="-1" strike="noStrike">
                <a:solidFill>
                  <a:srgbClr val="000000"/>
                </a:solidFill>
                <a:latin typeface="Calibri"/>
              </a:rPr>
              <a:t>hackers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, programadores, desenvolvedores e inventores em geral, com o objetivo de promover o desenvolvimento de projetos que visem ao aumento da transparência na divulgação de informações públicas por meio de tecnologias digitai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arto Humanizado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Traz informações sobre violência obstétrica, ajuda a criar um plano de parto e possui um mapa com indicação de doulas e grupos de apoio ao parto, amamentação e maternida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xemplos de Apps que surgiram em Hackathons da Administração Públ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Espaço Reservado para Número de Slide 4"/>
          <p:cNvSpPr/>
          <p:nvPr/>
        </p:nvSpPr>
        <p:spPr>
          <a:xfrm>
            <a:off x="533520" y="651996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A34D-E73C-467C-9495-33D4172CE4B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-36360" y="1197000"/>
            <a:ext cx="914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pt-BR" sz="4000" spc="-1" strike="noStrike">
                <a:solidFill>
                  <a:srgbClr val="006699"/>
                </a:solidFill>
                <a:latin typeface="HelveticaNeue Condensed"/>
              </a:rPr>
              <a:t>OBRIGADO!</a:t>
            </a:r>
            <a:br>
              <a:rPr sz="3200"/>
            </a:br>
            <a:br>
              <a:rPr sz="2800"/>
            </a:br>
            <a:br>
              <a:rPr sz="2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Hackathon 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Resultado da Maratona: </a:t>
            </a:r>
            <a:r>
              <a:rPr b="0" lang="pt-BR" sz="2500" spc="-1" strike="noStrike" u="sng">
                <a:solidFill>
                  <a:srgbClr val="000000"/>
                </a:solidFill>
                <a:uFillTx/>
                <a:latin typeface="Calibri"/>
              </a:rPr>
              <a:t>soluções mobil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A ANS estabelecerá as finalidades desejadas das ferramentas que serão propostas pelos participantes. Podem-se criar </a:t>
            </a:r>
            <a:r>
              <a:rPr b="0" lang="pt-BR" sz="2500" spc="-1" strike="noStrike" u="sng">
                <a:solidFill>
                  <a:srgbClr val="000000"/>
                </a:solidFill>
                <a:uFillTx/>
                <a:latin typeface="Calibri"/>
              </a:rPr>
              <a:t>linhas/temas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 diferentes a serem escolhidos pelos inscrito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Hackathon 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Propostas de inscrição individual ou de equipes de, no máximo, 3 (três) component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Formulário de inscrição:  proposta sucinta de projeto de desenvolvimento de solução </a:t>
            </a:r>
            <a:r>
              <a:rPr b="0" i="1" lang="pt-BR" sz="2600" spc="-1" strike="noStrike">
                <a:solidFill>
                  <a:srgbClr val="000000"/>
                </a:solidFill>
                <a:latin typeface="Calibri"/>
              </a:rPr>
              <a:t>mobile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que utilize, preferencialmente, dados da A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Total de pessoas selecionadas: 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Comissõ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468360" y="1244520"/>
          <a:ext cx="8229600" cy="4243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5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issão Organizad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issão Avaliad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98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ada por servidores e colaboradores do órgão, tanto das áreas relacionadas aos temas propostos, quanto das áreas de informação e T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ada por profissionais reconhecidos nas áreas desejadas, além das áreas de transparência e desenvolvimento de aplicações web. É desejável que haja pelo menos 1 representante do órgão e 1 da W3C Brasil (entidade que defende os princípios da Internet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 o regula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recia os projetos desenvolvi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eciona as pessoas para participarem do ev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za a infraestrutura do ev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vulga o ev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za a área no Por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Comissão Organizad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DES/ASTEG (2 integrantes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DES/GEPI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DES/GERPI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DES/ASSINF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EGER/GCOM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EGER/GPLA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GES/GGETI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GES/GGAPI/GEQI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FI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PRO; 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OP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Avaliação das propost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ritérios a serem utilizados na avaliação das proposta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INTERESSE PÚBLICO: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será avaliado se a proposta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contribuirá para o desenvolvimento do setor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e saúde suplement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CRIATIVIDADE: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será avaliado se a proposta apresentará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solução inovadora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para um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problema relevante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Dados a serem utiliza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Para o desenvolvimento das soluções propostas, deverão ser utilizados, preferencialmente,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dados disponíveis no Portal ANS,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 forma articulada com outros dados, quando necessári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Outras bases de dados que os participantes julgarem necessárias poderão ser utilizad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Formato do ev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Haverá um evento inicial (será transmitido via internet e a presença nele será facultativa) para apresentação dos temas, palestras e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monitor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Haverá duas semanas para desenvolvimento (o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monitoring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ocorrerá de forma virtual durante as duas semana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No último dia do evento, todos os projetos deverão ser apresentados na forma de protótipos. Cada apresentação terá duração máxima de 15 minut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15:19:07Z</dcterms:created>
  <dc:creator>ANS</dc:creator>
  <dc:description/>
  <dc:language>en-US</dc:language>
  <cp:lastModifiedBy>Leonardo Fernandes Ferreira</cp:lastModifiedBy>
  <cp:lastPrinted>2015-08-17T20:27:35Z</cp:lastPrinted>
  <dcterms:modified xsi:type="dcterms:W3CDTF">2016-05-18T15:57:00Z</dcterms:modified>
  <cp:revision>427</cp:revision>
  <dc:subject/>
  <dc:title>Slide 1</dc:title>
</cp:coreProperties>
</file>